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pct" ContentType="image/x-pict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CF6C2-1F0D-4CF3-BDC4-827A48CDDD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9B712-7FB7-4E92-A4D8-613A7977B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E83C1-D797-44EB-B6B5-3C82620919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AAA65-6417-4423-8023-10F4F22AED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489D2-FB1A-40EB-8704-261095B7B3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5EC61-6399-4C30-83E5-17767CF8D7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36E8D-3C6B-4A46-B894-AE6F83E6B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D67D-E22D-4B7B-9AA2-BEA09D421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874B6-F5D1-4325-BA5B-16EC502A30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9810D-09B0-4E9F-940B-52B2CCC1B0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32312-0925-495E-B92F-81453802EA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D8F5-9ECB-4697-A7DA-9B27DC682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0FF2-14E7-4ADA-9DAD-96DA3B06C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83C-EBF0-4475-8C35-441F8D57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8B2-36F1-4310-987F-CA80AB5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34E0B-8E9B-4068-9382-6DA0C10D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76F9B-F21F-4D22-933C-6B7C847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DAE4-7222-47BB-8478-C22BD4E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5D93-6014-46A7-9BDF-C07FDFD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94EA3-A7C2-4E0A-8AD2-E547218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6E972-6694-4036-BF81-078573AE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CD560-428D-42A4-9443-727B0D5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C5545-289D-4815-B1F5-B48DA7BA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A1CC-6583-406D-9430-47E6B63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181-3145-4785-AEC3-51F56467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081-1FA9-4862-BD15-E833AF0D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336-2F36-4AF9-BC8E-5522AE43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C1A-AEFC-4FFF-97A9-3D9B1AA5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C5A-3AEE-424E-B01C-65CD978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D601-5163-4527-8C22-15DA66A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C7CF-789D-41D8-8E44-355672C3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4523-E84D-42A9-A846-5ACFD95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7B68-3491-4626-8925-0BE27C3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92D-C1DD-4CD1-895C-45DC94D6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12AB-176B-41C2-B8B4-D44FE70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63D-522F-4AB2-A696-B40B40D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A125-3C93-4F69-8192-D20885C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39C-151C-4295-8C87-02462EF8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13ED-708B-4A56-B168-A480A7F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210F-B5EC-4440-9B49-6C0FD11A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C301-81C4-48FB-A3C9-7E4F5622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95DD-3B2B-4B88-9120-5B86D57B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985F-70CD-4F72-A0F1-4890FB5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0FCE-7AD6-4BC6-90BC-2F97526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9F1-C35C-47EB-9572-21039CCF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2178-7911-4AAF-818A-7EAE0D8A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EEDB-4003-477C-A9CE-D63A894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826E-484E-46A7-AC20-34B856E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0309-497A-45DF-9508-275F8C2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AE05-F5BA-4ACA-BBAA-56C5BF01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6159-CA1A-4DFB-8082-E62BC3EE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972B-F811-4291-B482-116F3CA3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EA37-18C1-4905-A3EF-94B83E8E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2AE9A-823E-4A1D-8335-3599380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571E-F021-47DC-BB6E-155DD818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250-00B7-46FA-9306-E96A3D89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2090-95F0-4624-B8C7-30A8E9D1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754E-0AE9-406D-B26D-FB5CFA8A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74DB-B59D-4F94-A957-14881CF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4504B-2D7A-47F2-8273-39B9017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2061-DD06-4D88-8CA0-D8A1CE2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DFDC-DF87-4339-BDEC-66BA33E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17D7-8879-4489-BBBB-26657B09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ED86-7918-4A45-88C7-96A21036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1E74-186F-42CF-8C1A-EBBE392B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1B93-1B81-4BF3-8071-D02CAB1E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D89-BE87-420A-BAD7-7867BE6C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22E8-9D9B-49C3-AFD1-4326FDA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DCD7-17DB-4EDA-95AC-76D8AA4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7547-D2BD-4D5D-A205-560A1C62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7714-B5A5-44A0-BA11-B0384A9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5D04-3307-4649-B4F2-39679EE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F6F7-A185-4ED6-B91D-B6BCDAE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D249-98B3-4DF9-B194-D7E1224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4E46-DB73-4AA6-9D93-3176A81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BF3E-EE36-4025-8AF0-10C75C3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1E70-635E-4B75-95AD-BC105A17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963-585E-452B-9FA1-5A4654A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B1B2-B8CB-41CC-B17F-0F8C382A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D272-04EE-47EC-B6CD-A37F404D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C355-D913-46FF-980C-425C0F61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E6A7-07B5-4048-9287-92BCACA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3C853-D4B8-4944-A19C-64DC3D26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D986-EA8A-4BDA-89C5-4EE3626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4B21-CADE-4ADF-B770-F706C09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935B-21B2-4064-BCF7-66FCDD3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FC01-C445-4D02-9F73-23B227E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9D91-1A7F-4FB5-B987-F36883C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AF2-BDE5-43FF-87D7-5BB3746E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4DEE-4601-4D4C-9A85-BF88A00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9207-10DA-434E-A1F1-40FFAD1A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C930-73C3-4DD5-8F00-86841F10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216F-F48C-402D-B39B-01C4C555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0FE9A-6D0A-44BE-BD8A-2775F5B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BB70-0D0D-4120-B37D-941D001C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ECFF-4C61-4F83-9E4B-A10C05E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0601-F774-4B3C-8FD1-7482173C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4AF7-7F5A-4327-BB74-7BDFC94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6146-B8BF-4E8E-BA41-1189899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953-EBB5-4B6A-B648-F31AA2E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0973-C671-46D4-B3B5-478E951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F2763-5FC6-4051-B471-D7387D3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6D1CA-BDEE-4353-906D-3A0F5C9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0E38-C3AB-45A2-AAD2-8BC344F2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BA5B-24D3-46DA-A6B2-0FE36773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9565-BF46-41F5-99B9-BD3F1438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58088-3C9B-4293-A2CF-FBF05D9E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938B-8497-47D1-8BA0-1275E3CE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4BB9-0FAF-471F-9B82-22E47FD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F4808-D680-4AB0-B887-05F6C1C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EDF-3010-4D22-9B34-36466D5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B54DA-EA29-4951-AB15-F249584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9B185-7FE4-4E06-AA11-DD879C9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D4103-3DDF-478B-BB4E-E162619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704B-E113-44F4-BC6E-AE0BDA74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8590-9355-4C7A-BEE4-3A87961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C4CB-DD8F-4564-AA89-69979C8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1B9F-5667-45DA-AA34-EBB1E54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4C385-CD59-461D-85B8-2F1FE9EA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A19BA-2951-44A1-A3BD-24B566F9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86AE3-6FE6-4DF1-8782-D954DF0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D86F2-36F4-4AD6-AD13-192DA7FA26C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6E4D5-AB00-4FB8-8FC9-D4A4A49141A6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5B533-2E67-4DE6-AEE8-D7AEA57F10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05D8E-9EE8-4D9E-A4B4-5892502A2DCD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505E8-737A-4735-82AF-81422FCBB5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E5C76-9F91-4F67-989A-F5C0DD60B0D4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24781-5B3F-4CA1-BEE6-BFAFD31D66AC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F9EB9-681B-4128-9E79-FCCB902E118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C41CC-EA31-46B0-A358-72E49D61C802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70FED-C9B1-4F95-A210-9AC19DCF7AE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54964-2478-4618-B45D-2D160D82B8EA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9082080" cy="1280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968120" y="498600"/>
            <a:ext cx="599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isIt Update (Hank’s p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503280" y="1768320"/>
            <a:ext cx="90723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oject is doing very we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here is an upcoming slide on partn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ch more like an open source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VN repo at LBL through SciDAC Outreach Cen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iling lists at ORN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~200 people on users li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itusers.org Wi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Wiki for developers and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utorials (at SciDAC conf, Snowbird, PPP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0800" y="380880"/>
            <a:ext cx="9411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kely upcoming features in the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380880" y="1569960"/>
            <a:ext cx="90727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oincare pl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tegration of FastB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Trails (?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on-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Q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 Pyth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opefully more for in-situ, multi-res, and time-varying d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+ a lot mor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167760"/>
            <a:ext cx="907272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VisIt has a rapidly growing developer community.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680392" t="1246919" r="1751337" b="766947"/>
          <a:stretch/>
        </p:blipFill>
        <p:spPr>
          <a:xfrm>
            <a:off x="8121600" y="4116240"/>
            <a:ext cx="1959120" cy="34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4d4d6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888240" cy="4681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948120"/>
            <a:ext cx="2016000" cy="218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C /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Brugger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leen B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us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687760"/>
            <a:ext cx="18478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3260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64120" y="4619520"/>
            <a:ext cx="2016360" cy="12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OR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3505320"/>
            <a:ext cx="23878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C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G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iver Ru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ard D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2819520"/>
            <a:ext cx="21841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 Str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16000" y="6132600"/>
            <a:ext cx="20163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NEP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Br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64360" y="4200480"/>
            <a:ext cx="2016360" cy="92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 Whe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S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64360" y="5880240"/>
            <a:ext cx="2016360" cy="92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ien Vivodt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5880240"/>
            <a:ext cx="2016360" cy="142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ison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679400"/>
            <a:ext cx="184788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B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32120" y="210024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Galbr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76960" y="361152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y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3880" y="6551640"/>
            <a:ext cx="2016360" cy="100800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DRD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L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16000" y="5375160"/>
            <a:ext cx="2016360" cy="75744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il $ to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Br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662360"/>
            <a:ext cx="2268360" cy="67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CDavis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28120" y="2940120"/>
            <a:ext cx="2016000" cy="5871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H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Fo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2960" y="3527280"/>
            <a:ext cx="1679760" cy="5889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T (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 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1511280"/>
            <a:ext cx="3024000" cy="134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re partnerships coming soon (NS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ontributions from people not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0" y="1538640"/>
            <a:ext cx="9072720" cy="57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495680"/>
            <a:ext cx="4092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AB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2920" y="1767960"/>
            <a:ext cx="9402840" cy="5461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0M cells*100 layers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2920" y="176832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 (for single file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NL User</cp:lastModifiedBy>
  <dcterms:modified xsi:type="dcterms:W3CDTF">2008-10-22T12:52:41Z</dcterms:modified>
  <cp:revision>19</cp:revision>
  <dc:subject/>
  <dc:title>Slide 1</dc:title>
</cp:coreProperties>
</file>